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66AC-DBF4-4B82-8CAB-97756A4BE49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FFA6-500C-44FF-BE06-1B7EACD2476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92C7-3501-401E-A794-E11C54398E4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0D95-DD01-43D9-8D9F-AE8A311F730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9030-F589-41AF-9BFA-F16F70300C3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BE05-0F42-4F5A-BE30-924C20B9329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167C-F45E-4A57-97B3-1AB8D4F7D49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A1C4-411B-4680-856D-25DE6160FBA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30C7-09A5-4D01-95D5-AE7ED44E592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0C21-D0E0-4F82-A792-831402AAE9D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B93-6DB7-4A5E-8201-5C2F7F70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114-318F-4ABA-B4F8-393F4990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E58-8745-42E1-8963-0DBBD770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102-1220-4E4F-8E11-F820B741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E9E-6500-4BF7-9660-F5DC500D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D51-78A3-4421-9B48-94E65C2D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471-26E7-4227-8241-030E2818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6CA-AD76-4DAF-A3AA-E13CF5B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972-57EC-4B5D-8BD8-DB60BE00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9FD-9779-486D-9456-4E997BF3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CFC-2058-478F-88C4-D7F896CD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69A-272B-4A6E-9DCB-51533C88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81C8-9760-445B-8081-72408FD3D646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88960" y="1700280"/>
            <a:ext cx="67230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gent-based Modeling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40000" y="4319640"/>
            <a:ext cx="680400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s it qualitative or quantitative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04960" y="1484280"/>
            <a:ext cx="80881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t-based models can handle all typ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ntitativ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ze of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inal or categorical (e.g. ethnicit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(e.g. I am linked to him and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nds B a message about one time in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659640" y="6453360"/>
            <a:ext cx="25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(Gilbert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st agent-based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 model where one single agent walks randomly in a 30x30 cellular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ciety of moving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 model where 20 agents walk randomly in a 30x30 cellular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possible to have more than one agent per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-based SIR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112536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n SIR model using an agent-bas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2"/>
          <p:cNvGrpSpPr/>
          <p:nvPr/>
        </p:nvGrpSpPr>
        <p:grpSpPr>
          <a:xfrm>
            <a:off x="1025640" y="1849320"/>
            <a:ext cx="7146720" cy="1940040"/>
            <a:chOff x="1025640" y="1849320"/>
            <a:chExt cx="7146720" cy="1940040"/>
          </a:xfrm>
        </p:grpSpPr>
        <p:pic>
          <p:nvPicPr>
            <p:cNvPr id="228" name="Picture 3" descr="image.png"/>
            <p:cNvPicPr/>
            <p:nvPr/>
          </p:nvPicPr>
          <p:blipFill>
            <a:blip r:embed="rId1"/>
            <a:stretch/>
          </p:blipFill>
          <p:spPr>
            <a:xfrm>
              <a:off x="1025640" y="1849320"/>
              <a:ext cx="714672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2911680" y="184932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5634000" y="186012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2"/>
          <p:cNvSpPr/>
          <p:nvPr/>
        </p:nvSpPr>
        <p:spPr>
          <a:xfrm>
            <a:off x="611280" y="4235400"/>
            <a:ext cx="8354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Initial stocks:  susceptible = 9998, infected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dt = 1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Run time = 30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Duration of an infection: 2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Humnst777 BT"/>
              </a:rPr>
              <a:t>Each infected comes into contact 6 with other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25% of the contacts are enough to cause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any many names...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733320" y="1484280"/>
            <a:ext cx="7799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gent-based modelling (A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gent-based modelling and simulation (AB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gent-based systems (A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-agent systems (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-agent simulation (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ividual-based modelling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t has been used in different areas of scien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733320" y="1484280"/>
            <a:ext cx="77994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a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gu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3854520" y="1341360"/>
            <a:ext cx="52545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0960" y="345960"/>
            <a:ext cx="7880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-based modelling (ABM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852480" y="2997360"/>
            <a:ext cx="40068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tur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55640" y="1125360"/>
            <a:ext cx="838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ottom-up approach for building complex systems, through the dynamical interaction of agent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3919680" cy="3527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55640" y="5654520"/>
            <a:ext cx="8388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agent is any actor within an environment, any entity that can affect itself, the environment and other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215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Geneva"/>
              </a:rPr>
              <a:t>Four types of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500280" cy="219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2"/>
          <a:stretch/>
        </p:blipFill>
        <p:spPr>
          <a:xfrm>
            <a:off x="785880" y="3857760"/>
            <a:ext cx="3429000" cy="2071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3"/>
          <a:stretch/>
        </p:blipFill>
        <p:spPr>
          <a:xfrm>
            <a:off x="4929120" y="3786120"/>
            <a:ext cx="3500640" cy="2133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714240" y="1071720"/>
            <a:ext cx="3500640" cy="2286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648000" y="6000840"/>
            <a:ext cx="365688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49440" y="3357720"/>
            <a:ext cx="373176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857840" y="3286080"/>
            <a:ext cx="365760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932000" y="6000840"/>
            <a:ext cx="360072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240" y="6519960"/>
            <a:ext cx="2714760" cy="337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fonte: Helen Couclelis (UC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215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Geneva"/>
              </a:rPr>
              <a:t>Four types of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500280" cy="219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2"/>
          <a:stretch/>
        </p:blipFill>
        <p:spPr>
          <a:xfrm>
            <a:off x="785880" y="3857760"/>
            <a:ext cx="3429000" cy="207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3"/>
          <a:stretch/>
        </p:blipFill>
        <p:spPr>
          <a:xfrm>
            <a:off x="4929120" y="3786120"/>
            <a:ext cx="350064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714240" y="1071720"/>
            <a:ext cx="35006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648000" y="6000840"/>
            <a:ext cx="365688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649440" y="3357720"/>
            <a:ext cx="373176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857840" y="3286080"/>
            <a:ext cx="365760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932000" y="6000840"/>
            <a:ext cx="360072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429240" y="6519960"/>
            <a:ext cx="2714760" cy="337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fonte: Helen Couclelis (UC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555200" y="1125360"/>
            <a:ext cx="114552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-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5148360" y="1052640"/>
            <a:ext cx="295272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ngineer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411200" y="3860640"/>
            <a:ext cx="1469880" cy="7038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5364000" y="3933720"/>
            <a:ext cx="288000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Descriptiv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-Based Modell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561760" y="3016080"/>
            <a:ext cx="6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625320" y="2817720"/>
            <a:ext cx="8518320" cy="3451320"/>
            <a:chOff x="625320" y="2817720"/>
            <a:chExt cx="8518320" cy="3451320"/>
          </a:xfrm>
        </p:grpSpPr>
        <p:grpSp>
          <p:nvGrpSpPr>
            <p:cNvPr id="147" name="Group 11"/>
            <p:cNvGrpSpPr/>
            <p:nvPr/>
          </p:nvGrpSpPr>
          <p:grpSpPr>
            <a:xfrm>
              <a:off x="625320" y="2817720"/>
              <a:ext cx="8518320" cy="3056040"/>
              <a:chOff x="625320" y="2817720"/>
              <a:chExt cx="8518320" cy="3056040"/>
            </a:xfrm>
          </p:grpSpPr>
          <p:sp>
            <p:nvSpPr>
              <p:cNvPr id="148" name="Freeform 12"/>
              <p:cNvSpPr/>
              <p:nvPr/>
            </p:nvSpPr>
            <p:spPr>
              <a:xfrm>
                <a:off x="625320" y="2817720"/>
                <a:ext cx="8505720" cy="3041640"/>
              </a:xfrm>
              <a:custGeom>
                <a:avLst/>
                <a:gdLst>
                  <a:gd name="textAreaLeft" fmla="*/ 0 w 8505720"/>
                  <a:gd name="textAreaRight" fmla="*/ 8506080 w 8505720"/>
                  <a:gd name="textAreaTop" fmla="*/ 0 h 3041640"/>
                  <a:gd name="textAreaBottom" fmla="*/ 3042000 h 30416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9" y="0"/>
                    </a:lnTo>
                    <a:lnTo>
                      <a:pt x="10000" y="0"/>
                    </a:lnTo>
                    <a:lnTo>
                      <a:pt x="6330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"/>
              <p:cNvSpPr/>
              <p:nvPr/>
            </p:nvSpPr>
            <p:spPr>
              <a:xfrm>
                <a:off x="625320" y="2819520"/>
                <a:ext cx="8518320" cy="3054240"/>
              </a:xfrm>
              <a:custGeom>
                <a:avLst/>
                <a:gdLst>
                  <a:gd name="textAreaLeft" fmla="*/ 0 w 8518320"/>
                  <a:gd name="textAreaRight" fmla="*/ 8518680 w 8518320"/>
                  <a:gd name="textAreaTop" fmla="*/ 0 h 3054240"/>
                  <a:gd name="textAreaBottom" fmla="*/ 3054600 h 3054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70" y="0"/>
                    </a:lnTo>
                    <a:lnTo>
                      <a:pt x="10000" y="0"/>
                    </a:lnTo>
                    <a:lnTo>
                      <a:pt x="6329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4"/>
            <p:cNvGrpSpPr/>
            <p:nvPr/>
          </p:nvGrpSpPr>
          <p:grpSpPr>
            <a:xfrm>
              <a:off x="1695240" y="5445000"/>
              <a:ext cx="2043000" cy="824040"/>
              <a:chOff x="1695240" y="5445000"/>
              <a:chExt cx="2043000" cy="824040"/>
            </a:xfrm>
          </p:grpSpPr>
          <p:sp>
            <p:nvSpPr>
              <p:cNvPr id="151" name="Freeform 15"/>
              <p:cNvSpPr/>
              <p:nvPr/>
            </p:nvSpPr>
            <p:spPr>
              <a:xfrm>
                <a:off x="1695240" y="5472000"/>
                <a:ext cx="2043000" cy="453960"/>
              </a:xfrm>
              <a:custGeom>
                <a:avLst/>
                <a:gdLst>
                  <a:gd name="textAreaLeft" fmla="*/ 0 w 2043000"/>
                  <a:gd name="textAreaRight" fmla="*/ 2043360 w 2043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6"/>
              <p:cNvSpPr/>
              <p:nvPr/>
            </p:nvSpPr>
            <p:spPr>
              <a:xfrm>
                <a:off x="1698480" y="5445000"/>
                <a:ext cx="1809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nviron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17"/>
          <p:cNvGrpSpPr/>
          <p:nvPr/>
        </p:nvGrpSpPr>
        <p:grpSpPr>
          <a:xfrm>
            <a:off x="3216240" y="2981160"/>
            <a:ext cx="4522680" cy="1292040"/>
            <a:chOff x="3216240" y="2981160"/>
            <a:chExt cx="4522680" cy="1292040"/>
          </a:xfrm>
        </p:grpSpPr>
        <p:grpSp>
          <p:nvGrpSpPr>
            <p:cNvPr id="154" name="Group 18"/>
            <p:cNvGrpSpPr/>
            <p:nvPr/>
          </p:nvGrpSpPr>
          <p:grpSpPr>
            <a:xfrm>
              <a:off x="3216240" y="2981160"/>
              <a:ext cx="1246320" cy="1216080"/>
              <a:chOff x="3216240" y="2981160"/>
              <a:chExt cx="1246320" cy="1216080"/>
            </a:xfrm>
          </p:grpSpPr>
          <p:sp>
            <p:nvSpPr>
              <p:cNvPr id="155" name="Freeform 19"/>
              <p:cNvSpPr/>
              <p:nvPr/>
            </p:nvSpPr>
            <p:spPr>
              <a:xfrm>
                <a:off x="3216240" y="2981160"/>
                <a:ext cx="1246320" cy="1216080"/>
              </a:xfrm>
              <a:custGeom>
                <a:avLst/>
                <a:gdLst>
                  <a:gd name="textAreaLeft" fmla="*/ 0 w 1246320"/>
                  <a:gd name="textAreaRight" fmla="*/ 1246680 w 124632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20"/>
              <p:cNvGrpSpPr/>
              <p:nvPr/>
            </p:nvGrpSpPr>
            <p:grpSpPr>
              <a:xfrm>
                <a:off x="3657600" y="3101760"/>
                <a:ext cx="368280" cy="982440"/>
                <a:chOff x="3657600" y="3101760"/>
                <a:chExt cx="368280" cy="982440"/>
              </a:xfrm>
            </p:grpSpPr>
            <p:sp>
              <p:nvSpPr>
                <p:cNvPr id="157" name="Freeform 21"/>
                <p:cNvSpPr/>
                <p:nvPr/>
              </p:nvSpPr>
              <p:spPr>
                <a:xfrm>
                  <a:off x="3657600" y="3290760"/>
                  <a:ext cx="368280" cy="79344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793440"/>
                    <a:gd name="textAreaBottom" fmla="*/ 793800 h 79344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22"/>
                <p:cNvSpPr/>
                <p:nvPr/>
              </p:nvSpPr>
              <p:spPr>
                <a:xfrm>
                  <a:off x="3762360" y="3101760"/>
                  <a:ext cx="142200" cy="14580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Group 23"/>
            <p:cNvGrpSpPr/>
            <p:nvPr/>
          </p:nvGrpSpPr>
          <p:grpSpPr>
            <a:xfrm>
              <a:off x="6492960" y="3057120"/>
              <a:ext cx="1245960" cy="1216080"/>
              <a:chOff x="6492960" y="3057120"/>
              <a:chExt cx="1245960" cy="1216080"/>
            </a:xfrm>
          </p:grpSpPr>
          <p:sp>
            <p:nvSpPr>
              <p:cNvPr id="160" name="Freeform 24"/>
              <p:cNvSpPr/>
              <p:nvPr/>
            </p:nvSpPr>
            <p:spPr>
              <a:xfrm>
                <a:off x="6492960" y="3057120"/>
                <a:ext cx="1245960" cy="121608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25"/>
              <p:cNvGrpSpPr/>
              <p:nvPr/>
            </p:nvGrpSpPr>
            <p:grpSpPr>
              <a:xfrm>
                <a:off x="6932160" y="3177720"/>
                <a:ext cx="367920" cy="982800"/>
                <a:chOff x="6932160" y="3177720"/>
                <a:chExt cx="367920" cy="982800"/>
              </a:xfrm>
            </p:grpSpPr>
            <p:sp>
              <p:nvSpPr>
                <p:cNvPr id="162" name="Freeform 26"/>
                <p:cNvSpPr/>
                <p:nvPr/>
              </p:nvSpPr>
              <p:spPr>
                <a:xfrm>
                  <a:off x="6932160" y="3366720"/>
                  <a:ext cx="367920" cy="79380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27"/>
                <p:cNvSpPr/>
                <p:nvPr/>
              </p:nvSpPr>
              <p:spPr>
                <a:xfrm>
                  <a:off x="7036560" y="3177720"/>
                  <a:ext cx="142560" cy="14616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4" name="Group 28"/>
          <p:cNvGrpSpPr/>
          <p:nvPr/>
        </p:nvGrpSpPr>
        <p:grpSpPr>
          <a:xfrm>
            <a:off x="3962520" y="1341360"/>
            <a:ext cx="3467160" cy="1778040"/>
            <a:chOff x="3962520" y="1341360"/>
            <a:chExt cx="3467160" cy="1778040"/>
          </a:xfrm>
        </p:grpSpPr>
        <p:sp>
          <p:nvSpPr>
            <p:cNvPr id="165" name="Freeform 29"/>
            <p:cNvSpPr/>
            <p:nvPr/>
          </p:nvSpPr>
          <p:spPr>
            <a:xfrm>
              <a:off x="3998880" y="2979720"/>
              <a:ext cx="455760" cy="139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39680"/>
                <a:gd name="textAreaBottom" fmla="*/ 139680 h 139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4295880" y="2597040"/>
              <a:ext cx="768240" cy="3700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4471920" y="1681200"/>
              <a:ext cx="2957760" cy="979560"/>
            </a:xfrm>
            <a:custGeom>
              <a:avLst/>
              <a:gdLst>
                <a:gd name="textAreaLeft" fmla="*/ 0 w 2957760"/>
                <a:gd name="textAreaRight" fmla="*/ 2958120 w 29577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32"/>
            <p:cNvGrpSpPr/>
            <p:nvPr/>
          </p:nvGrpSpPr>
          <p:grpSpPr>
            <a:xfrm>
              <a:off x="5924520" y="1736640"/>
              <a:ext cx="664920" cy="649080"/>
              <a:chOff x="5924520" y="1736640"/>
              <a:chExt cx="664920" cy="649080"/>
            </a:xfrm>
          </p:grpSpPr>
          <p:sp>
            <p:nvSpPr>
              <p:cNvPr id="169" name="Freeform 33"/>
              <p:cNvSpPr/>
              <p:nvPr/>
            </p:nvSpPr>
            <p:spPr>
              <a:xfrm>
                <a:off x="5924520" y="1736640"/>
                <a:ext cx="664920" cy="64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3" y="0"/>
                    </a:moveTo>
                    <a:lnTo>
                      <a:pt x="8806" y="0"/>
                    </a:lnTo>
                    <a:cubicBezTo>
                      <a:pt x="9465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5" y="10000"/>
                      <a:pt x="8806" y="10000"/>
                    </a:cubicBezTo>
                    <a:lnTo>
                      <a:pt x="1193" y="10000"/>
                    </a:lnTo>
                    <a:cubicBezTo>
                      <a:pt x="534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4" y="0"/>
                      <a:pt x="1193" y="0"/>
                    </a:cubicBezTo>
                    <a:close/>
                    <a:moveTo>
                      <a:pt x="1193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34"/>
              <p:cNvGrpSpPr/>
              <p:nvPr/>
            </p:nvGrpSpPr>
            <p:grpSpPr>
              <a:xfrm>
                <a:off x="6161040" y="1798560"/>
                <a:ext cx="193680" cy="528480"/>
                <a:chOff x="6161040" y="1798560"/>
                <a:chExt cx="193680" cy="528480"/>
              </a:xfrm>
            </p:grpSpPr>
            <p:sp>
              <p:nvSpPr>
                <p:cNvPr id="171" name="Freeform 35"/>
                <p:cNvSpPr/>
                <p:nvPr/>
              </p:nvSpPr>
              <p:spPr>
                <a:xfrm>
                  <a:off x="6161040" y="1901520"/>
                  <a:ext cx="193680" cy="4255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52" y="0"/>
                      </a:moveTo>
                      <a:lnTo>
                        <a:pt x="7647" y="0"/>
                      </a:lnTo>
                      <a:lnTo>
                        <a:pt x="7815" y="0"/>
                      </a:lnTo>
                      <a:lnTo>
                        <a:pt x="7983" y="0"/>
                      </a:lnTo>
                      <a:lnTo>
                        <a:pt x="8067" y="0"/>
                      </a:lnTo>
                      <a:lnTo>
                        <a:pt x="8151" y="37"/>
                      </a:lnTo>
                      <a:lnTo>
                        <a:pt x="8319" y="37"/>
                      </a:lnTo>
                      <a:lnTo>
                        <a:pt x="8403" y="37"/>
                      </a:lnTo>
                      <a:lnTo>
                        <a:pt x="8571" y="74"/>
                      </a:lnTo>
                      <a:lnTo>
                        <a:pt x="8739" y="111"/>
                      </a:lnTo>
                      <a:lnTo>
                        <a:pt x="8823" y="111"/>
                      </a:lnTo>
                      <a:lnTo>
                        <a:pt x="8991" y="149"/>
                      </a:lnTo>
                      <a:lnTo>
                        <a:pt x="9159" y="186"/>
                      </a:lnTo>
                      <a:lnTo>
                        <a:pt x="9243" y="223"/>
                      </a:lnTo>
                      <a:lnTo>
                        <a:pt x="9411" y="298"/>
                      </a:lnTo>
                      <a:lnTo>
                        <a:pt x="9495" y="373"/>
                      </a:lnTo>
                      <a:lnTo>
                        <a:pt x="9579" y="410"/>
                      </a:lnTo>
                      <a:lnTo>
                        <a:pt x="9747" y="485"/>
                      </a:lnTo>
                      <a:lnTo>
                        <a:pt x="9831" y="559"/>
                      </a:lnTo>
                      <a:lnTo>
                        <a:pt x="9915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5" y="4589"/>
                      </a:lnTo>
                      <a:lnTo>
                        <a:pt x="9915" y="4626"/>
                      </a:lnTo>
                      <a:lnTo>
                        <a:pt x="9831" y="4701"/>
                      </a:lnTo>
                      <a:lnTo>
                        <a:pt x="9831" y="4738"/>
                      </a:lnTo>
                      <a:lnTo>
                        <a:pt x="9747" y="4776"/>
                      </a:lnTo>
                      <a:lnTo>
                        <a:pt x="9663" y="4813"/>
                      </a:lnTo>
                      <a:lnTo>
                        <a:pt x="9495" y="4850"/>
                      </a:lnTo>
                      <a:lnTo>
                        <a:pt x="9411" y="4888"/>
                      </a:lnTo>
                      <a:lnTo>
                        <a:pt x="9327" y="4925"/>
                      </a:lnTo>
                      <a:lnTo>
                        <a:pt x="9243" y="4925"/>
                      </a:lnTo>
                      <a:lnTo>
                        <a:pt x="9075" y="4925"/>
                      </a:lnTo>
                      <a:lnTo>
                        <a:pt x="8991" y="4925"/>
                      </a:lnTo>
                      <a:lnTo>
                        <a:pt x="8823" y="4925"/>
                      </a:lnTo>
                      <a:lnTo>
                        <a:pt x="8739" y="4888"/>
                      </a:lnTo>
                      <a:lnTo>
                        <a:pt x="8571" y="4888"/>
                      </a:lnTo>
                      <a:lnTo>
                        <a:pt x="8487" y="4850"/>
                      </a:lnTo>
                      <a:lnTo>
                        <a:pt x="8403" y="4813"/>
                      </a:lnTo>
                      <a:lnTo>
                        <a:pt x="8319" y="4776"/>
                      </a:lnTo>
                      <a:lnTo>
                        <a:pt x="8319" y="4738"/>
                      </a:lnTo>
                      <a:lnTo>
                        <a:pt x="8235" y="4701"/>
                      </a:lnTo>
                      <a:lnTo>
                        <a:pt x="8235" y="4664"/>
                      </a:lnTo>
                      <a:lnTo>
                        <a:pt x="8235" y="4626"/>
                      </a:lnTo>
                      <a:lnTo>
                        <a:pt x="8151" y="4589"/>
                      </a:lnTo>
                      <a:lnTo>
                        <a:pt x="8151" y="4552"/>
                      </a:lnTo>
                      <a:lnTo>
                        <a:pt x="8151" y="1679"/>
                      </a:lnTo>
                      <a:lnTo>
                        <a:pt x="7647" y="1679"/>
                      </a:lnTo>
                      <a:lnTo>
                        <a:pt x="7647" y="9440"/>
                      </a:lnTo>
                      <a:lnTo>
                        <a:pt x="7647" y="9514"/>
                      </a:lnTo>
                      <a:lnTo>
                        <a:pt x="7563" y="9589"/>
                      </a:lnTo>
                      <a:lnTo>
                        <a:pt x="7478" y="9701"/>
                      </a:lnTo>
                      <a:lnTo>
                        <a:pt x="7394" y="9776"/>
                      </a:lnTo>
                      <a:lnTo>
                        <a:pt x="7310" y="9813"/>
                      </a:lnTo>
                      <a:lnTo>
                        <a:pt x="7226" y="9888"/>
                      </a:lnTo>
                      <a:lnTo>
                        <a:pt x="7058" y="9925"/>
                      </a:lnTo>
                      <a:lnTo>
                        <a:pt x="6890" y="9962"/>
                      </a:lnTo>
                      <a:lnTo>
                        <a:pt x="6890" y="10000"/>
                      </a:lnTo>
                      <a:lnTo>
                        <a:pt x="6722" y="10000"/>
                      </a:lnTo>
                      <a:lnTo>
                        <a:pt x="6638" y="10000"/>
                      </a:lnTo>
                      <a:lnTo>
                        <a:pt x="6470" y="10000"/>
                      </a:lnTo>
                      <a:lnTo>
                        <a:pt x="6386" y="10000"/>
                      </a:lnTo>
                      <a:lnTo>
                        <a:pt x="6218" y="10000"/>
                      </a:lnTo>
                      <a:lnTo>
                        <a:pt x="5966" y="10000"/>
                      </a:lnTo>
                      <a:lnTo>
                        <a:pt x="5882" y="9962"/>
                      </a:lnTo>
                      <a:lnTo>
                        <a:pt x="5714" y="9925"/>
                      </a:lnTo>
                      <a:lnTo>
                        <a:pt x="5630" y="9888"/>
                      </a:lnTo>
                      <a:lnTo>
                        <a:pt x="5630" y="9850"/>
                      </a:lnTo>
                      <a:lnTo>
                        <a:pt x="5462" y="9776"/>
                      </a:lnTo>
                      <a:lnTo>
                        <a:pt x="5378" y="9701"/>
                      </a:lnTo>
                      <a:lnTo>
                        <a:pt x="5378" y="9664"/>
                      </a:lnTo>
                      <a:lnTo>
                        <a:pt x="5294" y="9626"/>
                      </a:lnTo>
                      <a:lnTo>
                        <a:pt x="5294" y="9552"/>
                      </a:lnTo>
                      <a:lnTo>
                        <a:pt x="5294" y="9514"/>
                      </a:lnTo>
                      <a:lnTo>
                        <a:pt x="5294" y="4813"/>
                      </a:lnTo>
                      <a:lnTo>
                        <a:pt x="4621" y="4813"/>
                      </a:lnTo>
                      <a:lnTo>
                        <a:pt x="4621" y="9477"/>
                      </a:lnTo>
                      <a:lnTo>
                        <a:pt x="4621" y="9552"/>
                      </a:lnTo>
                      <a:lnTo>
                        <a:pt x="4621" y="9626"/>
                      </a:lnTo>
                      <a:lnTo>
                        <a:pt x="4537" y="9701"/>
                      </a:lnTo>
                      <a:lnTo>
                        <a:pt x="4453" y="9776"/>
                      </a:lnTo>
                      <a:lnTo>
                        <a:pt x="4369" y="9850"/>
                      </a:lnTo>
                      <a:lnTo>
                        <a:pt x="4285" y="9888"/>
                      </a:lnTo>
                      <a:lnTo>
                        <a:pt x="4117" y="9925"/>
                      </a:lnTo>
                      <a:lnTo>
                        <a:pt x="3949" y="9962"/>
                      </a:lnTo>
                      <a:lnTo>
                        <a:pt x="3781" y="10000"/>
                      </a:lnTo>
                      <a:lnTo>
                        <a:pt x="3529" y="10000"/>
                      </a:lnTo>
                      <a:lnTo>
                        <a:pt x="3361" y="10000"/>
                      </a:lnTo>
                      <a:lnTo>
                        <a:pt x="3193" y="10000"/>
                      </a:lnTo>
                      <a:lnTo>
                        <a:pt x="3109" y="10000"/>
                      </a:lnTo>
                      <a:lnTo>
                        <a:pt x="3025" y="9962"/>
                      </a:lnTo>
                      <a:lnTo>
                        <a:pt x="2941" y="9925"/>
                      </a:lnTo>
                      <a:lnTo>
                        <a:pt x="2773" y="9888"/>
                      </a:lnTo>
                      <a:lnTo>
                        <a:pt x="2605" y="9850"/>
                      </a:lnTo>
                      <a:lnTo>
                        <a:pt x="2605" y="9813"/>
                      </a:lnTo>
                      <a:lnTo>
                        <a:pt x="2436" y="9738"/>
                      </a:lnTo>
                      <a:lnTo>
                        <a:pt x="2352" y="9701"/>
                      </a:lnTo>
                      <a:lnTo>
                        <a:pt x="2352" y="9626"/>
                      </a:lnTo>
                      <a:lnTo>
                        <a:pt x="2352" y="9589"/>
                      </a:lnTo>
                      <a:lnTo>
                        <a:pt x="2268" y="9477"/>
                      </a:lnTo>
                      <a:lnTo>
                        <a:pt x="2268" y="1679"/>
                      </a:lnTo>
                      <a:lnTo>
                        <a:pt x="1764" y="1679"/>
                      </a:lnTo>
                      <a:lnTo>
                        <a:pt x="1764" y="4552"/>
                      </a:lnTo>
                      <a:lnTo>
                        <a:pt x="1764" y="4589"/>
                      </a:lnTo>
                      <a:lnTo>
                        <a:pt x="1680" y="4664"/>
                      </a:lnTo>
                      <a:lnTo>
                        <a:pt x="1680" y="4701"/>
                      </a:lnTo>
                      <a:lnTo>
                        <a:pt x="1596" y="4738"/>
                      </a:lnTo>
                      <a:lnTo>
                        <a:pt x="1596" y="4776"/>
                      </a:lnTo>
                      <a:lnTo>
                        <a:pt x="1512" y="4813"/>
                      </a:lnTo>
                      <a:lnTo>
                        <a:pt x="1428" y="4813"/>
                      </a:lnTo>
                      <a:lnTo>
                        <a:pt x="1344" y="4850"/>
                      </a:lnTo>
                      <a:lnTo>
                        <a:pt x="1260" y="4888"/>
                      </a:lnTo>
                      <a:lnTo>
                        <a:pt x="1176" y="4888"/>
                      </a:lnTo>
                      <a:lnTo>
                        <a:pt x="1092" y="4925"/>
                      </a:lnTo>
                      <a:lnTo>
                        <a:pt x="1008" y="4925"/>
                      </a:lnTo>
                      <a:lnTo>
                        <a:pt x="924" y="4925"/>
                      </a:lnTo>
                      <a:lnTo>
                        <a:pt x="672" y="4925"/>
                      </a:lnTo>
                      <a:lnTo>
                        <a:pt x="588" y="4925"/>
                      </a:lnTo>
                      <a:lnTo>
                        <a:pt x="504" y="4888"/>
                      </a:lnTo>
                      <a:lnTo>
                        <a:pt x="420" y="4850"/>
                      </a:lnTo>
                      <a:lnTo>
                        <a:pt x="336" y="4850"/>
                      </a:lnTo>
                      <a:lnTo>
                        <a:pt x="252" y="4813"/>
                      </a:lnTo>
                      <a:lnTo>
                        <a:pt x="168" y="4776"/>
                      </a:lnTo>
                      <a:lnTo>
                        <a:pt x="84" y="4738"/>
                      </a:lnTo>
                      <a:lnTo>
                        <a:pt x="84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4" y="597"/>
                      </a:lnTo>
                      <a:lnTo>
                        <a:pt x="168" y="485"/>
                      </a:lnTo>
                      <a:lnTo>
                        <a:pt x="336" y="410"/>
                      </a:lnTo>
                      <a:lnTo>
                        <a:pt x="420" y="373"/>
                      </a:lnTo>
                      <a:lnTo>
                        <a:pt x="588" y="298"/>
                      </a:lnTo>
                      <a:lnTo>
                        <a:pt x="756" y="223"/>
                      </a:lnTo>
                      <a:lnTo>
                        <a:pt x="1008" y="149"/>
                      </a:lnTo>
                      <a:lnTo>
                        <a:pt x="1176" y="111"/>
                      </a:lnTo>
                      <a:lnTo>
                        <a:pt x="1344" y="74"/>
                      </a:lnTo>
                      <a:lnTo>
                        <a:pt x="1680" y="37"/>
                      </a:lnTo>
                      <a:lnTo>
                        <a:pt x="1848" y="0"/>
                      </a:lnTo>
                      <a:lnTo>
                        <a:pt x="2100" y="0"/>
                      </a:lnTo>
                      <a:lnTo>
                        <a:pt x="23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36"/>
                <p:cNvSpPr/>
                <p:nvPr/>
              </p:nvSpPr>
              <p:spPr>
                <a:xfrm>
                  <a:off x="6216480" y="1798560"/>
                  <a:ext cx="71640" cy="72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Group 37"/>
            <p:cNvGrpSpPr/>
            <p:nvPr/>
          </p:nvGrpSpPr>
          <p:grpSpPr>
            <a:xfrm>
              <a:off x="6381720" y="1888920"/>
              <a:ext cx="666720" cy="649440"/>
              <a:chOff x="6381720" y="1888920"/>
              <a:chExt cx="666720" cy="649440"/>
            </a:xfrm>
          </p:grpSpPr>
          <p:sp>
            <p:nvSpPr>
              <p:cNvPr id="174" name="Freeform 38"/>
              <p:cNvSpPr/>
              <p:nvPr/>
            </p:nvSpPr>
            <p:spPr>
              <a:xfrm>
                <a:off x="6381720" y="1888920"/>
                <a:ext cx="666720" cy="64944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0" y="0"/>
                    </a:moveTo>
                    <a:lnTo>
                      <a:pt x="8809" y="0"/>
                    </a:lnTo>
                    <a:cubicBezTo>
                      <a:pt x="9466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6" y="10000"/>
                      <a:pt x="8809" y="10000"/>
                    </a:cubicBezTo>
                    <a:lnTo>
                      <a:pt x="1190" y="10000"/>
                    </a:lnTo>
                    <a:cubicBezTo>
                      <a:pt x="533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3" y="0"/>
                      <a:pt x="1190" y="0"/>
                    </a:cubicBezTo>
                    <a:close/>
                    <a:moveTo>
                      <a:pt x="1190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39"/>
              <p:cNvGrpSpPr/>
              <p:nvPr/>
            </p:nvGrpSpPr>
            <p:grpSpPr>
              <a:xfrm>
                <a:off x="6618240" y="1950840"/>
                <a:ext cx="195120" cy="528480"/>
                <a:chOff x="6618240" y="1950840"/>
                <a:chExt cx="195120" cy="528480"/>
              </a:xfrm>
            </p:grpSpPr>
            <p:sp>
              <p:nvSpPr>
                <p:cNvPr id="176" name="Freeform 40"/>
                <p:cNvSpPr/>
                <p:nvPr/>
              </p:nvSpPr>
              <p:spPr>
                <a:xfrm>
                  <a:off x="6618240" y="2054160"/>
                  <a:ext cx="195120" cy="42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33" y="0"/>
                      </a:moveTo>
                      <a:lnTo>
                        <a:pt x="7666" y="0"/>
                      </a:lnTo>
                      <a:lnTo>
                        <a:pt x="7833" y="0"/>
                      </a:lnTo>
                      <a:lnTo>
                        <a:pt x="7999" y="0"/>
                      </a:lnTo>
                      <a:lnTo>
                        <a:pt x="8083" y="0"/>
                      </a:lnTo>
                      <a:lnTo>
                        <a:pt x="8166" y="37"/>
                      </a:lnTo>
                      <a:lnTo>
                        <a:pt x="8333" y="37"/>
                      </a:lnTo>
                      <a:lnTo>
                        <a:pt x="8416" y="37"/>
                      </a:lnTo>
                      <a:lnTo>
                        <a:pt x="8583" y="74"/>
                      </a:lnTo>
                      <a:lnTo>
                        <a:pt x="8750" y="111"/>
                      </a:lnTo>
                      <a:lnTo>
                        <a:pt x="8833" y="111"/>
                      </a:lnTo>
                      <a:lnTo>
                        <a:pt x="8999" y="149"/>
                      </a:lnTo>
                      <a:lnTo>
                        <a:pt x="9166" y="186"/>
                      </a:lnTo>
                      <a:lnTo>
                        <a:pt x="9249" y="223"/>
                      </a:lnTo>
                      <a:lnTo>
                        <a:pt x="9416" y="298"/>
                      </a:lnTo>
                      <a:lnTo>
                        <a:pt x="9499" y="373"/>
                      </a:lnTo>
                      <a:lnTo>
                        <a:pt x="9583" y="410"/>
                      </a:lnTo>
                      <a:lnTo>
                        <a:pt x="9749" y="485"/>
                      </a:lnTo>
                      <a:lnTo>
                        <a:pt x="9833" y="559"/>
                      </a:lnTo>
                      <a:lnTo>
                        <a:pt x="9916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6" y="4589"/>
                      </a:lnTo>
                      <a:lnTo>
                        <a:pt x="9916" y="4626"/>
                      </a:lnTo>
                      <a:lnTo>
                        <a:pt x="9833" y="4701"/>
                      </a:lnTo>
                      <a:lnTo>
                        <a:pt x="9833" y="4738"/>
                      </a:lnTo>
                      <a:lnTo>
                        <a:pt x="9749" y="4776"/>
                      </a:lnTo>
                      <a:lnTo>
                        <a:pt x="9666" y="4813"/>
                      </a:lnTo>
                      <a:lnTo>
                        <a:pt x="9499" y="4850"/>
                      </a:lnTo>
                      <a:lnTo>
                        <a:pt x="9416" y="4888"/>
                      </a:lnTo>
                      <a:lnTo>
                        <a:pt x="9333" y="4925"/>
                      </a:lnTo>
                      <a:lnTo>
                        <a:pt x="9249" y="4925"/>
                      </a:lnTo>
                      <a:lnTo>
                        <a:pt x="9083" y="4925"/>
                      </a:lnTo>
                      <a:lnTo>
                        <a:pt x="8999" y="4925"/>
                      </a:lnTo>
                      <a:lnTo>
                        <a:pt x="8833" y="4925"/>
                      </a:lnTo>
                      <a:lnTo>
                        <a:pt x="8750" y="4888"/>
                      </a:lnTo>
                      <a:lnTo>
                        <a:pt x="8583" y="4888"/>
                      </a:lnTo>
                      <a:lnTo>
                        <a:pt x="8499" y="4850"/>
                      </a:lnTo>
                      <a:lnTo>
                        <a:pt x="8416" y="4813"/>
                      </a:lnTo>
                      <a:lnTo>
                        <a:pt x="8333" y="4776"/>
                      </a:lnTo>
                      <a:lnTo>
                        <a:pt x="8333" y="4738"/>
                      </a:lnTo>
                      <a:lnTo>
                        <a:pt x="8249" y="4701"/>
                      </a:lnTo>
                      <a:lnTo>
                        <a:pt x="8249" y="4664"/>
                      </a:lnTo>
                      <a:lnTo>
                        <a:pt x="8249" y="4626"/>
                      </a:lnTo>
                      <a:lnTo>
                        <a:pt x="8166" y="4589"/>
                      </a:lnTo>
                      <a:lnTo>
                        <a:pt x="8166" y="4552"/>
                      </a:lnTo>
                      <a:lnTo>
                        <a:pt x="8166" y="1716"/>
                      </a:lnTo>
                      <a:lnTo>
                        <a:pt x="7666" y="1716"/>
                      </a:lnTo>
                      <a:lnTo>
                        <a:pt x="7666" y="9440"/>
                      </a:lnTo>
                      <a:lnTo>
                        <a:pt x="7666" y="9514"/>
                      </a:lnTo>
                      <a:lnTo>
                        <a:pt x="7583" y="9589"/>
                      </a:lnTo>
                      <a:lnTo>
                        <a:pt x="7416" y="9701"/>
                      </a:lnTo>
                      <a:lnTo>
                        <a:pt x="7333" y="9776"/>
                      </a:lnTo>
                      <a:lnTo>
                        <a:pt x="7249" y="9813"/>
                      </a:lnTo>
                      <a:lnTo>
                        <a:pt x="7166" y="9888"/>
                      </a:lnTo>
                      <a:lnTo>
                        <a:pt x="6999" y="9925"/>
                      </a:lnTo>
                      <a:lnTo>
                        <a:pt x="6916" y="9962"/>
                      </a:lnTo>
                      <a:lnTo>
                        <a:pt x="6833" y="10000"/>
                      </a:lnTo>
                      <a:lnTo>
                        <a:pt x="6666" y="10000"/>
                      </a:lnTo>
                      <a:lnTo>
                        <a:pt x="6583" y="10000"/>
                      </a:lnTo>
                      <a:lnTo>
                        <a:pt x="6416" y="10000"/>
                      </a:lnTo>
                      <a:lnTo>
                        <a:pt x="6333" y="10000"/>
                      </a:lnTo>
                      <a:lnTo>
                        <a:pt x="6166" y="10000"/>
                      </a:lnTo>
                      <a:lnTo>
                        <a:pt x="5916" y="10000"/>
                      </a:lnTo>
                      <a:lnTo>
                        <a:pt x="5833" y="9962"/>
                      </a:lnTo>
                      <a:lnTo>
                        <a:pt x="5666" y="9925"/>
                      </a:lnTo>
                      <a:lnTo>
                        <a:pt x="5666" y="9888"/>
                      </a:lnTo>
                      <a:lnTo>
                        <a:pt x="5583" y="9850"/>
                      </a:lnTo>
                      <a:lnTo>
                        <a:pt x="5416" y="9776"/>
                      </a:lnTo>
                      <a:lnTo>
                        <a:pt x="5333" y="9701"/>
                      </a:lnTo>
                      <a:lnTo>
                        <a:pt x="5333" y="9664"/>
                      </a:lnTo>
                      <a:lnTo>
                        <a:pt x="5249" y="9626"/>
                      </a:lnTo>
                      <a:lnTo>
                        <a:pt x="5249" y="9552"/>
                      </a:lnTo>
                      <a:lnTo>
                        <a:pt x="5249" y="9514"/>
                      </a:lnTo>
                      <a:lnTo>
                        <a:pt x="5249" y="4813"/>
                      </a:lnTo>
                      <a:lnTo>
                        <a:pt x="4583" y="4813"/>
                      </a:lnTo>
                      <a:lnTo>
                        <a:pt x="4583" y="9477"/>
                      </a:lnTo>
                      <a:lnTo>
                        <a:pt x="4583" y="9552"/>
                      </a:lnTo>
                      <a:lnTo>
                        <a:pt x="4583" y="9626"/>
                      </a:lnTo>
                      <a:lnTo>
                        <a:pt x="4499" y="9701"/>
                      </a:lnTo>
                      <a:lnTo>
                        <a:pt x="4416" y="9776"/>
                      </a:lnTo>
                      <a:lnTo>
                        <a:pt x="4333" y="9850"/>
                      </a:lnTo>
                      <a:lnTo>
                        <a:pt x="4250" y="9888"/>
                      </a:lnTo>
                      <a:lnTo>
                        <a:pt x="4083" y="9925"/>
                      </a:lnTo>
                      <a:lnTo>
                        <a:pt x="3916" y="9962"/>
                      </a:lnTo>
                      <a:lnTo>
                        <a:pt x="3750" y="10000"/>
                      </a:lnTo>
                      <a:lnTo>
                        <a:pt x="3499" y="10000"/>
                      </a:lnTo>
                      <a:lnTo>
                        <a:pt x="3333" y="10000"/>
                      </a:lnTo>
                      <a:lnTo>
                        <a:pt x="3166" y="10000"/>
                      </a:lnTo>
                      <a:lnTo>
                        <a:pt x="3000" y="9962"/>
                      </a:lnTo>
                      <a:lnTo>
                        <a:pt x="2916" y="9925"/>
                      </a:lnTo>
                      <a:lnTo>
                        <a:pt x="2749" y="9888"/>
                      </a:lnTo>
                      <a:lnTo>
                        <a:pt x="2583" y="9850"/>
                      </a:lnTo>
                      <a:lnTo>
                        <a:pt x="2583" y="9813"/>
                      </a:lnTo>
                      <a:lnTo>
                        <a:pt x="2416" y="9738"/>
                      </a:lnTo>
                      <a:lnTo>
                        <a:pt x="2333" y="9701"/>
                      </a:lnTo>
                      <a:lnTo>
                        <a:pt x="2333" y="9626"/>
                      </a:lnTo>
                      <a:lnTo>
                        <a:pt x="2333" y="9589"/>
                      </a:lnTo>
                      <a:lnTo>
                        <a:pt x="2250" y="9477"/>
                      </a:lnTo>
                      <a:lnTo>
                        <a:pt x="2250" y="1716"/>
                      </a:lnTo>
                      <a:lnTo>
                        <a:pt x="1750" y="1716"/>
                      </a:lnTo>
                      <a:lnTo>
                        <a:pt x="1750" y="4552"/>
                      </a:lnTo>
                      <a:lnTo>
                        <a:pt x="1750" y="4589"/>
                      </a:lnTo>
                      <a:lnTo>
                        <a:pt x="1666" y="4664"/>
                      </a:lnTo>
                      <a:lnTo>
                        <a:pt x="1666" y="4701"/>
                      </a:lnTo>
                      <a:lnTo>
                        <a:pt x="1583" y="4738"/>
                      </a:lnTo>
                      <a:lnTo>
                        <a:pt x="1583" y="4776"/>
                      </a:lnTo>
                      <a:lnTo>
                        <a:pt x="1499" y="4813"/>
                      </a:lnTo>
                      <a:lnTo>
                        <a:pt x="1416" y="4813"/>
                      </a:lnTo>
                      <a:lnTo>
                        <a:pt x="1333" y="4850"/>
                      </a:lnTo>
                      <a:lnTo>
                        <a:pt x="1250" y="4888"/>
                      </a:lnTo>
                      <a:lnTo>
                        <a:pt x="1166" y="4888"/>
                      </a:lnTo>
                      <a:lnTo>
                        <a:pt x="1083" y="4925"/>
                      </a:lnTo>
                      <a:lnTo>
                        <a:pt x="1000" y="4925"/>
                      </a:lnTo>
                      <a:lnTo>
                        <a:pt x="916" y="4925"/>
                      </a:lnTo>
                      <a:lnTo>
                        <a:pt x="666" y="4925"/>
                      </a:lnTo>
                      <a:lnTo>
                        <a:pt x="500" y="4888"/>
                      </a:lnTo>
                      <a:lnTo>
                        <a:pt x="416" y="4850"/>
                      </a:lnTo>
                      <a:lnTo>
                        <a:pt x="333" y="4850"/>
                      </a:lnTo>
                      <a:lnTo>
                        <a:pt x="250" y="4813"/>
                      </a:lnTo>
                      <a:lnTo>
                        <a:pt x="166" y="4776"/>
                      </a:lnTo>
                      <a:lnTo>
                        <a:pt x="83" y="4738"/>
                      </a:lnTo>
                      <a:lnTo>
                        <a:pt x="83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3" y="597"/>
                      </a:lnTo>
                      <a:lnTo>
                        <a:pt x="166" y="485"/>
                      </a:lnTo>
                      <a:lnTo>
                        <a:pt x="333" y="410"/>
                      </a:lnTo>
                      <a:lnTo>
                        <a:pt x="416" y="373"/>
                      </a:lnTo>
                      <a:lnTo>
                        <a:pt x="583" y="298"/>
                      </a:lnTo>
                      <a:lnTo>
                        <a:pt x="750" y="223"/>
                      </a:lnTo>
                      <a:lnTo>
                        <a:pt x="1000" y="149"/>
                      </a:lnTo>
                      <a:lnTo>
                        <a:pt x="1166" y="111"/>
                      </a:lnTo>
                      <a:lnTo>
                        <a:pt x="1333" y="74"/>
                      </a:lnTo>
                      <a:lnTo>
                        <a:pt x="1666" y="37"/>
                      </a:lnTo>
                      <a:lnTo>
                        <a:pt x="1916" y="0"/>
                      </a:lnTo>
                      <a:lnTo>
                        <a:pt x="2083" y="0"/>
                      </a:lnTo>
                      <a:lnTo>
                        <a:pt x="233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1"/>
                <p:cNvSpPr/>
                <p:nvPr/>
              </p:nvSpPr>
              <p:spPr>
                <a:xfrm>
                  <a:off x="6673680" y="1950840"/>
                  <a:ext cx="70920" cy="730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42"/>
            <p:cNvGrpSpPr/>
            <p:nvPr/>
          </p:nvGrpSpPr>
          <p:grpSpPr>
            <a:xfrm>
              <a:off x="4498920" y="1979640"/>
              <a:ext cx="1562040" cy="304560"/>
              <a:chOff x="4498920" y="1979640"/>
              <a:chExt cx="1562040" cy="304560"/>
            </a:xfrm>
          </p:grpSpPr>
          <p:sp>
            <p:nvSpPr>
              <p:cNvPr id="179" name="Freeform 43"/>
              <p:cNvSpPr/>
              <p:nvPr/>
            </p:nvSpPr>
            <p:spPr>
              <a:xfrm>
                <a:off x="4498920" y="1979640"/>
                <a:ext cx="1549440" cy="293400"/>
              </a:xfrm>
              <a:custGeom>
                <a:avLst/>
                <a:gdLst>
                  <a:gd name="textAreaLeft" fmla="*/ 0 w 1549440"/>
                  <a:gd name="textAreaRight" fmla="*/ 1549800 w 15494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4"/>
              <p:cNvSpPr/>
              <p:nvPr/>
            </p:nvSpPr>
            <p:spPr>
              <a:xfrm>
                <a:off x="4498920" y="1979640"/>
                <a:ext cx="1562040" cy="30456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3962520" y="1341360"/>
              <a:ext cx="1971720" cy="642600"/>
              <a:chOff x="3962520" y="1341360"/>
              <a:chExt cx="1971720" cy="642600"/>
            </a:xfrm>
          </p:grpSpPr>
          <p:sp>
            <p:nvSpPr>
              <p:cNvPr id="182" name="Freeform 46"/>
              <p:cNvSpPr/>
              <p:nvPr/>
            </p:nvSpPr>
            <p:spPr>
              <a:xfrm>
                <a:off x="3962520" y="1380960"/>
                <a:ext cx="1971720" cy="363600"/>
              </a:xfrm>
              <a:custGeom>
                <a:avLst/>
                <a:gdLst>
                  <a:gd name="textAreaLeft" fmla="*/ 0 w 1971720"/>
                  <a:gd name="textAreaRight" fmla="*/ 1971720 w 197172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47"/>
              <p:cNvSpPr/>
              <p:nvPr/>
            </p:nvSpPr>
            <p:spPr>
              <a:xfrm>
                <a:off x="3964680" y="134136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Represent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48"/>
          <p:cNvGrpSpPr/>
          <p:nvPr/>
        </p:nvGrpSpPr>
        <p:grpSpPr>
          <a:xfrm>
            <a:off x="4448160" y="3141720"/>
            <a:ext cx="2187720" cy="642600"/>
            <a:chOff x="4448160" y="3141720"/>
            <a:chExt cx="2187720" cy="642600"/>
          </a:xfrm>
        </p:grpSpPr>
        <p:grpSp>
          <p:nvGrpSpPr>
            <p:cNvPr id="185" name="Group 49"/>
            <p:cNvGrpSpPr/>
            <p:nvPr/>
          </p:nvGrpSpPr>
          <p:grpSpPr>
            <a:xfrm>
              <a:off x="4448160" y="3417480"/>
              <a:ext cx="2181240" cy="285120"/>
              <a:chOff x="4448160" y="3417480"/>
              <a:chExt cx="2181240" cy="285120"/>
            </a:xfrm>
          </p:grpSpPr>
          <p:sp>
            <p:nvSpPr>
              <p:cNvPr id="186" name="Line 50"/>
              <p:cNvSpPr/>
              <p:nvPr/>
            </p:nvSpPr>
            <p:spPr>
              <a:xfrm>
                <a:off x="4448160" y="3417480"/>
                <a:ext cx="1962360" cy="21384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1"/>
              <p:cNvSpPr/>
              <p:nvPr/>
            </p:nvSpPr>
            <p:spPr>
              <a:xfrm>
                <a:off x="6224760" y="3547440"/>
                <a:ext cx="404640" cy="15516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8137"/>
                    </a:moveTo>
                    <a:lnTo>
                      <a:pt x="989" y="0"/>
                    </a:lnTo>
                    <a:lnTo>
                      <a:pt x="0" y="10000"/>
                    </a:lnTo>
                    <a:lnTo>
                      <a:pt x="10000" y="8137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52"/>
            <p:cNvGrpSpPr/>
            <p:nvPr/>
          </p:nvGrpSpPr>
          <p:grpSpPr>
            <a:xfrm>
              <a:off x="4727520" y="3141720"/>
              <a:ext cx="1908360" cy="642600"/>
              <a:chOff x="4727520" y="3141720"/>
              <a:chExt cx="1908360" cy="642600"/>
            </a:xfrm>
          </p:grpSpPr>
          <p:sp>
            <p:nvSpPr>
              <p:cNvPr id="189" name="Freeform 53"/>
              <p:cNvSpPr/>
              <p:nvPr/>
            </p:nvSpPr>
            <p:spPr>
              <a:xfrm>
                <a:off x="4727520" y="3171600"/>
                <a:ext cx="1908360" cy="36324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4"/>
              <p:cNvSpPr/>
              <p:nvPr/>
            </p:nvSpPr>
            <p:spPr>
              <a:xfrm>
                <a:off x="4736160" y="314172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55"/>
          <p:cNvGrpSpPr/>
          <p:nvPr/>
        </p:nvGrpSpPr>
        <p:grpSpPr>
          <a:xfrm>
            <a:off x="4110120" y="4143240"/>
            <a:ext cx="1103760" cy="1042920"/>
            <a:chOff x="4110120" y="4143240"/>
            <a:chExt cx="1103760" cy="1042920"/>
          </a:xfrm>
        </p:grpSpPr>
        <p:grpSp>
          <p:nvGrpSpPr>
            <p:cNvPr id="192" name="Group 56"/>
            <p:cNvGrpSpPr/>
            <p:nvPr/>
          </p:nvGrpSpPr>
          <p:grpSpPr>
            <a:xfrm>
              <a:off x="4110120" y="4143240"/>
              <a:ext cx="626760" cy="1042920"/>
              <a:chOff x="4110120" y="4143240"/>
              <a:chExt cx="626760" cy="1042920"/>
            </a:xfrm>
          </p:grpSpPr>
          <p:sp>
            <p:nvSpPr>
              <p:cNvPr id="193" name="Line 57"/>
              <p:cNvSpPr/>
              <p:nvPr/>
            </p:nvSpPr>
            <p:spPr>
              <a:xfrm>
                <a:off x="4110120" y="4143240"/>
                <a:ext cx="412560" cy="69048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8"/>
              <p:cNvSpPr/>
              <p:nvPr/>
            </p:nvSpPr>
            <p:spPr>
              <a:xfrm>
                <a:off x="4360680" y="4608360"/>
                <a:ext cx="376200" cy="577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10000"/>
                    </a:moveTo>
                    <a:lnTo>
                      <a:pt x="5063" y="0"/>
                    </a:lnTo>
                    <a:lnTo>
                      <a:pt x="0" y="3965"/>
                    </a:lnTo>
                    <a:lnTo>
                      <a:pt x="10000" y="10000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4282920" y="4292280"/>
              <a:ext cx="930960" cy="642600"/>
              <a:chOff x="4282920" y="4292280"/>
              <a:chExt cx="930960" cy="642600"/>
            </a:xfrm>
          </p:grpSpPr>
          <p:sp>
            <p:nvSpPr>
              <p:cNvPr id="196" name="Freeform 60"/>
              <p:cNvSpPr/>
              <p:nvPr/>
            </p:nvSpPr>
            <p:spPr>
              <a:xfrm>
                <a:off x="4282920" y="4352400"/>
                <a:ext cx="892080" cy="363600"/>
              </a:xfrm>
              <a:custGeom>
                <a:avLst/>
                <a:gdLst>
                  <a:gd name="textAreaLeft" fmla="*/ 0 w 892080"/>
                  <a:gd name="textAreaRight" fmla="*/ 892440 w 892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4408920" y="4292280"/>
                <a:ext cx="80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</a:rPr>
                  <a:t>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62"/>
          <p:cNvGrpSpPr/>
          <p:nvPr/>
        </p:nvGrpSpPr>
        <p:grpSpPr>
          <a:xfrm>
            <a:off x="2959200" y="4124160"/>
            <a:ext cx="1628280" cy="1210680"/>
            <a:chOff x="2959200" y="4124160"/>
            <a:chExt cx="1628280" cy="1210680"/>
          </a:xfrm>
        </p:grpSpPr>
        <p:grpSp>
          <p:nvGrpSpPr>
            <p:cNvPr id="199" name="Group 63"/>
            <p:cNvGrpSpPr/>
            <p:nvPr/>
          </p:nvGrpSpPr>
          <p:grpSpPr>
            <a:xfrm>
              <a:off x="3749760" y="4124160"/>
              <a:ext cx="837720" cy="1143000"/>
              <a:chOff x="3749760" y="4124160"/>
              <a:chExt cx="837720" cy="1143000"/>
            </a:xfrm>
          </p:grpSpPr>
          <p:sp>
            <p:nvSpPr>
              <p:cNvPr id="200" name="Line 64"/>
              <p:cNvSpPr/>
              <p:nvPr/>
            </p:nvSpPr>
            <p:spPr>
              <a:xfrm>
                <a:off x="4041720" y="4514760"/>
                <a:ext cx="545760" cy="75240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5"/>
              <p:cNvSpPr/>
              <p:nvPr/>
            </p:nvSpPr>
            <p:spPr>
              <a:xfrm>
                <a:off x="3749760" y="4124160"/>
                <a:ext cx="472680" cy="6015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601560"/>
                  <a:gd name="textAreaBottom" fmla="*/ 601560 h 601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4904" y="10000"/>
                    </a:lnTo>
                    <a:lnTo>
                      <a:pt x="10000" y="59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66"/>
            <p:cNvGrpSpPr/>
            <p:nvPr/>
          </p:nvGrpSpPr>
          <p:grpSpPr>
            <a:xfrm>
              <a:off x="2959200" y="4647960"/>
              <a:ext cx="1361880" cy="686880"/>
              <a:chOff x="2959200" y="4647960"/>
              <a:chExt cx="1361880" cy="686880"/>
            </a:xfrm>
          </p:grpSpPr>
          <p:sp>
            <p:nvSpPr>
              <p:cNvPr id="203" name="Freeform 67"/>
              <p:cNvSpPr/>
              <p:nvPr/>
            </p:nvSpPr>
            <p:spPr>
              <a:xfrm>
                <a:off x="2959200" y="4647960"/>
                <a:ext cx="1361880" cy="36360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8"/>
              <p:cNvSpPr/>
              <p:nvPr/>
            </p:nvSpPr>
            <p:spPr>
              <a:xfrm>
                <a:off x="2962800" y="4692240"/>
                <a:ext cx="121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69"/>
          <p:cNvGrpSpPr/>
          <p:nvPr/>
        </p:nvGrpSpPr>
        <p:grpSpPr>
          <a:xfrm>
            <a:off x="4359240" y="3591000"/>
            <a:ext cx="2060640" cy="915480"/>
            <a:chOff x="4359240" y="3591000"/>
            <a:chExt cx="2060640" cy="915480"/>
          </a:xfrm>
        </p:grpSpPr>
        <p:grpSp>
          <p:nvGrpSpPr>
            <p:cNvPr id="206" name="Group 70"/>
            <p:cNvGrpSpPr/>
            <p:nvPr/>
          </p:nvGrpSpPr>
          <p:grpSpPr>
            <a:xfrm>
              <a:off x="4359240" y="3591000"/>
              <a:ext cx="2055960" cy="304920"/>
              <a:chOff x="4359240" y="3591000"/>
              <a:chExt cx="2055960" cy="304920"/>
            </a:xfrm>
          </p:grpSpPr>
          <p:sp>
            <p:nvSpPr>
              <p:cNvPr id="207" name="Line 71"/>
              <p:cNvSpPr/>
              <p:nvPr/>
            </p:nvSpPr>
            <p:spPr>
              <a:xfrm>
                <a:off x="4576680" y="3672000"/>
                <a:ext cx="1838520" cy="22392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72"/>
              <p:cNvSpPr/>
              <p:nvPr/>
            </p:nvSpPr>
            <p:spPr>
              <a:xfrm>
                <a:off x="4359240" y="3591000"/>
                <a:ext cx="376200" cy="157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862"/>
                    </a:moveTo>
                    <a:lnTo>
                      <a:pt x="9010" y="10000"/>
                    </a:lnTo>
                    <a:lnTo>
                      <a:pt x="10000" y="0"/>
                    </a:lnTo>
                    <a:lnTo>
                      <a:pt x="0" y="1862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73"/>
            <p:cNvGrpSpPr/>
            <p:nvPr/>
          </p:nvGrpSpPr>
          <p:grpSpPr>
            <a:xfrm>
              <a:off x="4511520" y="3819600"/>
              <a:ext cx="1908360" cy="686880"/>
              <a:chOff x="4511520" y="3819600"/>
              <a:chExt cx="1908360" cy="686880"/>
            </a:xfrm>
          </p:grpSpPr>
          <p:sp>
            <p:nvSpPr>
              <p:cNvPr id="210" name="Freeform 74"/>
              <p:cNvSpPr/>
              <p:nvPr/>
            </p:nvSpPr>
            <p:spPr>
              <a:xfrm>
                <a:off x="4511520" y="381960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75"/>
              <p:cNvSpPr/>
              <p:nvPr/>
            </p:nvSpPr>
            <p:spPr>
              <a:xfrm>
                <a:off x="4520160" y="386388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13"/>
          <p:cNvSpPr/>
          <p:nvPr/>
        </p:nvSpPr>
        <p:spPr>
          <a:xfrm>
            <a:off x="428760" y="6521400"/>
            <a:ext cx="22860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Nigel Gilb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-120600" y="-27000"/>
            <a:ext cx="9264600" cy="7272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1"/>
          <p:cNvSpPr/>
          <p:nvPr/>
        </p:nvSpPr>
        <p:spPr>
          <a:xfrm>
            <a:off x="539640" y="6597720"/>
            <a:ext cx="836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Genev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Geneva"/>
              </a:rPr>
              <a:t>Source: http://www.leggmason.com/thoughtleaderforum/2004/conference/transcripts/arthur_trans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y is it interesting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804960" y="1484280"/>
            <a:ext cx="80881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 is emergent from agent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is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have goals, beliefs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is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gs change, develop, ev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move (in space and social location) and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se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659640" y="6453360"/>
            <a:ext cx="25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(Gilbert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R Andrade Nt</cp:lastModifiedBy>
  <dcterms:modified xsi:type="dcterms:W3CDTF">2020-09-04T18:13:36Z</dcterms:modified>
  <cp:revision>415</cp:revision>
  <dc:subject/>
  <dc:title>Low-carbon growth in Brazil?</dc:title>
</cp:coreProperties>
</file>